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C68-CADA-4E65-B78F-630AFB13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41B-2395-4E32-B548-8EAD6566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12D5A-DBEA-43E6-B4F5-6CBBC3C5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2BFA-370F-4F2C-B760-305DB0F8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7E9B-7D2A-42CC-B211-ADC2F165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81BBB-BBA1-442E-86D1-B4FA9EF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CCC18-9769-46C3-98BA-D92E19B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5CD6C-6DD6-4BB2-82F7-1699930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CEA7-A37F-4AAB-8FE3-4A02D72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EFCFF-444D-45B8-B913-0AC1E879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9577D-8DB6-4E16-AAEA-4E040F2C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B9A48-5040-4DCB-82B8-66727523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A04-E156-4FFA-A7F1-EE91A7FE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518B3-8EB5-42E4-973A-F832C11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513C7-E75F-450C-ADB7-CCCA165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B422D-EF3E-4039-829D-9CBC6CC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2E510-57A9-4781-9421-AB6DE732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76301-5FA1-4265-8004-E614660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9B6B4-A12C-46C0-BB06-69AC04A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74111-A554-4889-A3BC-66684EE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D0E77-4EA6-4199-9448-ED1723B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051B7-F10C-4985-B1E9-610B1EF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537E7-303F-4E45-8232-05F48AC4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50A-EDF8-4DE1-AB0D-B2819378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52D00-752C-4065-90AE-898EBD5F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2A86-9724-4350-B3F8-8AE03EA3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8FE-7DEE-4F76-A850-379CFF1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F11C-E02E-480D-8A31-AF0A531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1B09-34AC-44D1-8E9D-308158B9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82FF-E77B-48B7-ADD2-98B1C37D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E5E3-929B-4EDD-8CD5-BF34B7F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9676-CD6C-4DBE-8872-C6BB3CE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33C-F359-4A54-A211-3F17037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293-F477-4958-B088-9796B794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D1EB-24B4-457A-A776-105F921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4266-FF70-4A4C-AD9B-313923C9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A8A5-D9EB-40C8-B254-22F1DC9D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6A3E-BAF5-4F34-9802-648ACBD6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6D3A-00BF-4587-AF6F-A017E47E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CFAC-076C-41EA-9C0C-DCA84BB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74BD-CF20-4C26-88B4-954927A9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DA9E-FA17-49CC-98BC-7669DF8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3D50-1CC8-4CC7-9F05-56F0C9BE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E13-E6B1-4D5C-BFF3-9BF9F85A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DA08-B21A-46C5-BAE4-440112AA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ADE2-7FF2-409F-8D1E-14196C1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72FF-CE75-44D7-A17E-7E89560A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4822-8DEB-47C8-9DBA-1AB4813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437C-DDCE-4F7C-A677-C39A07B0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92F7-D625-450B-A250-2E2C0408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F6EF-D8D1-4619-B50D-2E7E6BBF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FDF9-D319-4464-B74F-46189E31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9A48-404E-4C38-B437-B5D6708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9F26-6EF4-4F2F-92AD-FEA7B7F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785-482A-4403-A2E9-F65B157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4844-1A79-4AE9-88EB-4EDBF5B9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4B5F-75A6-4D8D-8DEB-25718C0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225D-849C-4721-806C-24107A3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9B5E-4948-406A-9D5C-4409370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F10B-8A27-49B9-9ADE-54191B2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9FE8-B853-46B4-AE69-FDA004C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55C2-4DF1-46B3-AA69-D9E31B4B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79A8-C2FE-42B7-92CC-730C39FE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A023-7D2E-47CC-8140-878CD222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F37B-E21C-454B-AA4B-E49D40E5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DAA-008B-4569-811D-94B2E06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910B-9B6F-4E96-82B2-0AA841A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6EA00-94AD-4DA2-A121-A5593F2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364D-F292-4B5A-B37B-8592E02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9109-CC43-49FD-8690-9B49150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DA61-73D1-4CB0-B19F-C42F482D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22018-274C-42E6-89CF-5FA9759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8227-27E4-4A4B-B5F7-B5F56E3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A842-6BBF-48E5-81EA-159433C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92D5-6052-40D2-9310-643DAE7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4CB3-E20C-4340-A2E8-6E9815B7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B8A-C4A4-42EA-8226-E8C64273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DB49-A5E7-44C1-9442-39AA5004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FEBC-888B-4A31-B9F5-D5B5A2D3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3B48-EAE3-4F9A-9151-31B1058C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29CC8-ADBA-4CAF-B342-AFDD00F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6F001-A21B-44A1-9600-6715816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3B93-26DF-4D58-85F9-30E501FD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23E21-50BB-484C-86EC-94D65BA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F627-DEFC-41EF-BB20-44B9ED6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02FB-E324-4C80-9D86-FB4D489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B277-6D89-4BEF-967E-FCEEBB9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ECF-696E-4092-984F-42310D1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FE4F-C28A-4CFF-A1BC-C13C2CE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1B482-BA29-4E78-812E-639C76B7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4F88-AC42-4A44-AC68-8EB01778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F74BF-8BDE-41B6-BCBB-5CA3C54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EDB5C5-E70B-4D8E-A617-35077016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41630B-EFC9-41CC-9DAD-80DD4A65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19967-97A0-4E11-AEF9-AF9842E4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A9948-0C49-417B-973C-DD2AEBB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3DCF5-7274-422D-9B5D-A324573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BD04C-3C39-4BA1-87B0-D92F714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BE7-0FA1-4F29-9989-0E4FCC6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9E2CD4-AF4E-4A4C-8C63-8188C374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B7D33B-28F5-4D31-9B72-9CEBFCB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A3B9C3-DF1E-47C7-A117-50F87D42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DEF23-8F6B-4868-B7B5-8F1B20F0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66A08E-E049-42A8-B200-7C903DFF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76E0FF-7C38-4427-87DD-7EE90E3C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0C0DF9-2D13-4C95-8437-50E7FF1E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0360B-6279-439A-B323-C69D2BE2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F9DD21-0053-493A-AC70-161ECACE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12D71-AA61-49C3-8AB3-B21F6EB3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764-77D4-4D67-8741-D3821C4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65C8F-152F-47CE-9E23-202A815F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D7596-4EC2-491B-8268-CF42771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1B1B04-B258-4C2D-BC41-92BEBA1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190C9-9F78-49D9-AF5F-319CC4C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E6C71-A8C5-411C-8014-B38E37DC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FC1A1F-4C60-401A-B732-3727A0B5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E046D-3C14-4565-885E-693FFE7D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6B8E4-D1B7-4623-8507-54771D3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20CEB-C062-431A-96E5-4A120470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EFA3B-DEBC-434A-8F02-A86F8565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2695-27FF-4D69-BBA6-61183B9A780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CA7-219B-47D2-A309-17387F64AB6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28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431-C83D-4199-9B87-4A9129F03C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224D-ECD0-44FA-A410-75D957B833C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3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B5D3-2E21-4AC6-919D-99E00F42AAF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6F9-9A8E-4E00-B76F-DCD9FA66B6D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58D-2CFD-45FE-9698-06A27BA6EAB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096-1707-4D5A-BFDC-336C647B54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8E78-6492-4DA6-ABE3-D4460756364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82D-0C80-48C1-8602-715B128CCD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F9F4-52FD-410C-A4B9-A5F33908DF8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0DFB-6258-482C-AA84-A7C26A3B335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63A-E56D-4444-ACD4-DA2E04CEAE5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D2D6-C8D9-4A6C-B3F2-D1F43E7A8DE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9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D9D6-1EE2-478F-81B5-A8DC3CC9E30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2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891-5DE6-4F83-A035-FB51F623257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1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3DE-B953-459E-B2A6-281A77C9631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dt" idx="23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9FC-2919-4B1F-A018-17BFF0A6A1D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79DE-15AE-4A33-B09B-B505EF13C3B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713-6FBF-4D08-A602-6105F20E577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КОУ «Ушакинская СОШ № 1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сненский района Ленинградская область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4000" y="2060640"/>
            <a:ext cx="850392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ОБОБЩАЮЩИЙ УРОК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 ПО ТЕМЕ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ПУТЕШЕСТВИЕ В СТРАНУ 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СИНТАКСИС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 И ПУНКТУАЦИ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чителя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Храменковой Валентины Ивановн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0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85480" y="78552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вторить все пунктограммы в разделе «Синтаксис и пунктуация»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4" name="Picture 2" descr="http://oi42.tinypic.com/am2xhc.jpg"/>
          <p:cNvPicPr/>
          <p:nvPr/>
        </p:nvPicPr>
        <p:blipFill>
          <a:blip r:embed="rId2"/>
          <a:stretch/>
        </p:blipFill>
        <p:spPr>
          <a:xfrm>
            <a:off x="2987640" y="2997360"/>
            <a:ext cx="4537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Нижний колонтитул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яч Ольга Рамильевна, 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http://fs00.infourok.ru/images/doc/259/264328/img14.jpg"/>
          <p:cNvPicPr/>
          <p:nvPr/>
        </p:nvPicPr>
        <p:blipFill>
          <a:blip r:embed="rId2"/>
          <a:stretch/>
        </p:blipFill>
        <p:spPr>
          <a:xfrm>
            <a:off x="324000" y="189000"/>
            <a:ext cx="8351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4153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БОБЩАЮЩИЙ УР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 ТЕМ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ПУТЕШЕСТВИЕ В СТРАН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ИНТАКСИСА И ПУНКТУАЦИ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-игр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285840" y="2286000"/>
            <a:ext cx="857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а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оретиче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фографиче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таксиче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нктуацион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троль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%D0%BA%D0%B0%D1%80%D1%82%D0%B0-%D1%81%D0%BE%D0%BA%D1%80%D0%BE%D0%B2%D0%B8%D1%89%D0%B0-%D0%BF%D0%B8%D1%80%D0%B0%D1%82%D0%BE%D0%B2-%D1%81-spyglass-%D0%B8-%D0%BA%D0%BE%D0%BC%D0%BF%D0%B0%D1%81%D0%BE%D0%BC-35246424"/>
          <p:cNvPicPr/>
          <p:nvPr/>
        </p:nvPicPr>
        <p:blipFill>
          <a:blip r:embed="rId2"/>
          <a:stretch/>
        </p:blipFill>
        <p:spPr>
          <a:xfrm>
            <a:off x="5508720" y="213372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танция «Теоретическая»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13840" y="557640"/>
            <a:ext cx="8929800" cy="49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изучается синтаксис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ми бывают предложения по наличию грамматических основ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е предложения мы называем простыми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е предложения мы называем сложными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какие группы делятся сложные предложения по способу соединения простых предложений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помощи чего связаны простые предложения в БСП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какие группы делится сложное союзное предложение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4" name="Picture 8" descr="31"/>
          <p:cNvPicPr/>
          <p:nvPr/>
        </p:nvPicPr>
        <p:blipFill>
          <a:blip r:embed="rId2"/>
          <a:stretch/>
        </p:blipFill>
        <p:spPr>
          <a:xfrm>
            <a:off x="7236000" y="4869000"/>
            <a:ext cx="1439640" cy="1654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books"/>
          <p:cNvPicPr/>
          <p:nvPr/>
        </p:nvPicPr>
        <p:blipFill>
          <a:blip r:embed="rId3"/>
          <a:stretch/>
        </p:blipFill>
        <p:spPr>
          <a:xfrm>
            <a:off x="395280" y="4724280"/>
            <a:ext cx="2592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5341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танция «Орфографическая»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684360" y="1844280"/>
            <a:ext cx="73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с, грамматика, предложение, пунктуация, обстоятельство, словосочетание, дополнение, приставка, определение, суффикс, фонетика, орф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539640" y="3352320"/>
            <a:ext cx="7848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ое грамматическо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 уровен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ить одно словосочетание, составить его сх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 уровен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ить одно простое предложение, сделать его синтаксический разбор и сх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 уровен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ить мини-текст, в котором одно предложение должно быть БСП. Составить схему этого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Составьте устный связный рассказ на тему «Члены предложения»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50560" y="1196640"/>
            <a:ext cx="8607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ариант – «Главные члены предложения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ариант – «Второстепенные члены предложения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орная схем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ие члены предложения называют главными (второстепенными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какие вопросы отвечают главные (второстепенные) члены предложения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70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графически выделяют в предложении главные (второстепенные) члены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840" indent="-3578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8" descr="http://fs00.infourok.ru/images/doc/247/251806/hello_html_b51c5c1.png"/>
          <p:cNvPicPr/>
          <p:nvPr/>
        </p:nvPicPr>
        <p:blipFill>
          <a:blip r:embed="rId2"/>
          <a:stretch/>
        </p:blipFill>
        <p:spPr>
          <a:xfrm>
            <a:off x="1042920" y="333360"/>
            <a:ext cx="72010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Станция «Синтаксическая»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Задание: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запишите данные предложения, определите количество грамматических основ, составьте схемы и объясните наличие или отсутствие пунктограмм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Солнце садилось и косыми лучами освещало верхушку высокого дуб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Ночью ударил мороз и цветы к утру замёрзл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395280" y="2819520"/>
            <a:ext cx="8424720" cy="341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4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[     ]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[     ]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4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[     ]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КОГДА …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П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», - 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4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211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030a0"/>
                </a:solidFill>
                <a:latin typeface="Georgia"/>
              </a:rPr>
              <a:t>Станция «Пунктуационная»</a:t>
            </a:r>
            <a:br>
              <a:rPr sz="4200"/>
            </a:br>
            <a:br>
              <a:rPr sz="42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Задание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шифруйте и сконструируйте предложения по следующим схемам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Рефлекси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1680" y="1371240"/>
            <a:ext cx="851832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мы повтори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9" name="Picture 4" descr="http://odvin.ru/upload/iblock/e93/smayl_4.png"/>
          <p:cNvPicPr/>
          <p:nvPr/>
        </p:nvPicPr>
        <p:blipFill>
          <a:blip r:embed="rId2"/>
          <a:stretch/>
        </p:blipFill>
        <p:spPr>
          <a:xfrm>
            <a:off x="755640" y="36450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http://previews.123rf.com/images/lenm/lenm1205/lenm120500074/13451583-Illustration-of-a-Poker-faced-Smiley-Stock-Illustration-smiley-indifferent-face.jpg"/>
          <p:cNvPicPr/>
          <p:nvPr/>
        </p:nvPicPr>
        <p:blipFill>
          <a:blip r:embed="rId3"/>
          <a:stretch/>
        </p:blipFill>
        <p:spPr>
          <a:xfrm>
            <a:off x="3492360" y="371628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https://c-a.d-cd.net/13b50fu-960.jpg"/>
          <p:cNvPicPr/>
          <p:nvPr/>
        </p:nvPicPr>
        <p:blipFill>
          <a:blip r:embed="rId4"/>
          <a:stretch/>
        </p:blipFill>
        <p:spPr>
          <a:xfrm>
            <a:off x="6516720" y="364500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52:34Z</dcterms:created>
  <dc:creator>Teacher</dc:creator>
  <dc:description/>
  <dc:language>en-US</dc:language>
  <cp:lastModifiedBy>02</cp:lastModifiedBy>
  <dcterms:modified xsi:type="dcterms:W3CDTF">2016-04-20T09:28:44Z</dcterms:modified>
  <cp:revision>30</cp:revision>
  <dc:subject/>
  <dc:title>ОБОБЩАЮЩИЙ УРОК ПО ТЕМЕ «СИНТАКСИС И ПУНКТУАЦИЯ»</dc:title>
</cp:coreProperties>
</file>